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6FFC-2446-4AE8-9E74-B730909C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A8AE-F853-46E2-81CA-591DDF27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15B7-233B-495A-B755-D3AB123CE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7E77-B372-4AAC-B3DD-D1B41B1A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42AD-AB9D-47DC-8401-DDD6D0DC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1436-E6A6-4F1E-9A76-64261F49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80CA-1A18-437A-967D-8030C165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0ADE-AA20-4270-A721-3B50BFF8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3A7C-5EF4-4C90-9C27-CD75BA57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98A6-6159-4F20-9694-CD941176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97C2-ED0F-41A5-8265-3297C3AF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188-A345-4FD5-9D3D-CFF12EA6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1DD4-B7DC-4CD6-94FD-A9F4FC3D44DF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解   崔灝    黃鶴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elson Shi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2007/10/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黃鶴樓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崔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昔人已乘黃鶴去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此地空餘黃鶴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黃鶴一去不復返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白雲千載空悠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晴川歷歷漢陽樹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芳草萋萋鸚鵡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日暮鄉關何處是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煙波江上使人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前四句不難領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昔人已乘黃鶴去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此地空餘黃鶴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黃鶴一去不復返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白雲千載空悠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後四句如何解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晴川歷歷漢陽樹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芳草萋萋鸚鵡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日暮鄉關何處是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煙波江上使人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48a54"/>
                </a:solidFill>
                <a:latin typeface="Calibri"/>
              </a:rPr>
              <a:t>親臨黃鶴樓就不難領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48a54"/>
                </a:solidFill>
                <a:latin typeface="Calibri"/>
              </a:rPr>
              <a:t>或是看地圖與解說</a:t>
            </a:r>
            <a:r>
              <a:rPr b="0" lang="en-US" sz="3200" spc="-1" strike="noStrike">
                <a:solidFill>
                  <a:srgbClr val="948a54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17143" t="7298" r="12143" b="19747"/>
          <a:stretch/>
        </p:blipFill>
        <p:spPr>
          <a:xfrm>
            <a:off x="1071720" y="428760"/>
            <a:ext cx="7826040" cy="5929200"/>
          </a:xfrm>
          <a:prstGeom prst="rect">
            <a:avLst/>
          </a:prstGeom>
          <a:ln w="0">
            <a:noFill/>
          </a:ln>
        </p:spPr>
      </p:pic>
      <p:sp>
        <p:nvSpPr>
          <p:cNvPr id="50" name="橢圓形圖說文字 2"/>
          <p:cNvSpPr/>
          <p:nvPr/>
        </p:nvSpPr>
        <p:spPr>
          <a:xfrm>
            <a:off x="6500880" y="4643280"/>
            <a:ext cx="1428840" cy="571680"/>
          </a:xfrm>
          <a:prstGeom prst="wedgeEllipseCallout">
            <a:avLst>
              <a:gd name="adj1" fmla="val -79611"/>
              <a:gd name="adj2" fmla="val 958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黃鶴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流程圖: 替代處理程序 3" descr=""/>
          <p:cNvPicPr/>
          <p:nvPr/>
        </p:nvPicPr>
        <p:blipFill>
          <a:blip r:embed="rId2"/>
          <a:stretch/>
        </p:blipFill>
        <p:spPr>
          <a:xfrm>
            <a:off x="4267080" y="5553000"/>
            <a:ext cx="1395360" cy="609840"/>
          </a:xfrm>
          <a:prstGeom prst="rect">
            <a:avLst/>
          </a:prstGeom>
          <a:ln w="0">
            <a:noFill/>
          </a:ln>
        </p:spPr>
      </p:pic>
      <p:pic>
        <p:nvPicPr>
          <p:cNvPr id="52" name="流程圖: 替代處理程序 4" descr=""/>
          <p:cNvPicPr/>
          <p:nvPr/>
        </p:nvPicPr>
        <p:blipFill>
          <a:blip r:embed="rId3"/>
          <a:stretch/>
        </p:blipFill>
        <p:spPr>
          <a:xfrm>
            <a:off x="1554120" y="695160"/>
            <a:ext cx="1390680" cy="609840"/>
          </a:xfrm>
          <a:prstGeom prst="rect">
            <a:avLst/>
          </a:prstGeom>
          <a:ln w="0">
            <a:noFill/>
          </a:ln>
        </p:spPr>
      </p:pic>
      <p:pic>
        <p:nvPicPr>
          <p:cNvPr id="53" name="流程圖: 替代處理程序 5" descr=""/>
          <p:cNvPicPr/>
          <p:nvPr/>
        </p:nvPicPr>
        <p:blipFill>
          <a:blip r:embed="rId4"/>
          <a:stretch/>
        </p:blipFill>
        <p:spPr>
          <a:xfrm>
            <a:off x="7126200" y="622440"/>
            <a:ext cx="1395360" cy="609480"/>
          </a:xfrm>
          <a:prstGeom prst="rect">
            <a:avLst/>
          </a:prstGeom>
          <a:ln w="0">
            <a:noFill/>
          </a:ln>
        </p:spPr>
      </p:pic>
      <p:sp>
        <p:nvSpPr>
          <p:cNvPr id="54" name="橢圓形圖說文字 6"/>
          <p:cNvSpPr/>
          <p:nvPr/>
        </p:nvSpPr>
        <p:spPr>
          <a:xfrm>
            <a:off x="6786720" y="5286240"/>
            <a:ext cx="1428480" cy="571680"/>
          </a:xfrm>
          <a:prstGeom prst="wedgeEllipseCallout">
            <a:avLst>
              <a:gd name="adj1" fmla="val -79611"/>
              <a:gd name="adj2" fmla="val 958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蛇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橢圓形圖說文字 7"/>
          <p:cNvSpPr/>
          <p:nvPr/>
        </p:nvSpPr>
        <p:spPr>
          <a:xfrm>
            <a:off x="4143240" y="1785960"/>
            <a:ext cx="1428840" cy="571320"/>
          </a:xfrm>
          <a:prstGeom prst="wedgeEllipseCallout">
            <a:avLst>
              <a:gd name="adj1" fmla="val 61722"/>
              <a:gd name="adj2" fmla="val 87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龜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橢圓形圖說文字 8"/>
          <p:cNvSpPr/>
          <p:nvPr/>
        </p:nvSpPr>
        <p:spPr>
          <a:xfrm>
            <a:off x="2700360" y="2997360"/>
            <a:ext cx="1428840" cy="571320"/>
          </a:xfrm>
          <a:prstGeom prst="wedgeEllipseCallout">
            <a:avLst>
              <a:gd name="adj1" fmla="val 59333"/>
              <a:gd name="adj2" fmla="val 9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鸚鵡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橢圓形圖說文字 9"/>
          <p:cNvSpPr/>
          <p:nvPr/>
        </p:nvSpPr>
        <p:spPr>
          <a:xfrm>
            <a:off x="3929040" y="785880"/>
            <a:ext cx="1428840" cy="571320"/>
          </a:xfrm>
          <a:prstGeom prst="wedgeEllipseCallout">
            <a:avLst>
              <a:gd name="adj1" fmla="val 94384"/>
              <a:gd name="adj2" fmla="val 858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漢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橢圓形圖說文字 10"/>
          <p:cNvSpPr/>
          <p:nvPr/>
        </p:nvSpPr>
        <p:spPr>
          <a:xfrm>
            <a:off x="1357200" y="4214880"/>
            <a:ext cx="1428840" cy="571320"/>
          </a:xfrm>
          <a:prstGeom prst="wedgeEllipseCallout">
            <a:avLst>
              <a:gd name="adj1" fmla="val 79050"/>
              <a:gd name="adj2" fmla="val 558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Calibri"/>
              </a:rPr>
              <a:t>長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晴川歷歷漢陽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28440" y="285840"/>
            <a:ext cx="6019560" cy="58514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601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48a54"/>
                </a:solidFill>
                <a:latin typeface="Calibri"/>
              </a:rPr>
              <a:t>武漢市，以前為武漢三鎮，分別為武昌、漢口、漢陽三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48a54"/>
                </a:solidFill>
                <a:latin typeface="Calibri"/>
              </a:rPr>
              <a:t>黃鶴樓座落於武昌城的蛇山前端山頂，面向長江，蛇山尾端山腳即為武昌起義紀念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48a54"/>
                </a:solidFill>
                <a:latin typeface="Calibri"/>
              </a:rPr>
              <a:t>樓的對岸是漢陽城的龜山，古云，蛇龜相望，形容地勢。現龜山上有一電視發射塔，相當醒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48a54"/>
                </a:solidFill>
                <a:latin typeface="Calibri"/>
              </a:rPr>
              <a:t>解云：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長江天氣晴朗時，可以遠眺對岸漢陽龜山上的樹，歷歷在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芳草萋萋鸚鵡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48a54"/>
                </a:solidFill>
                <a:latin typeface="Calibri"/>
              </a:rPr>
              <a:t>樓的對岸往長江上游望去不遠處，古時有一沙洲，名為鸚鵡洲。現已消失隱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48a54"/>
                </a:solidFill>
                <a:latin typeface="Calibri"/>
              </a:rPr>
              <a:t>解云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接上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連對岸鸚鵡洲上的嫩草，綠意盎然，都清晰可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日暮鄉關何處是？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煙波江上使人愁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黃昏日落西沉，遙望對岸遠方的故鄉，好似布幕降下而關閉了，尋尋覓覓不知在何處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長江上昇起了一陣陣的霧氣，勾起了思鄉之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948a54"/>
                </a:solidFill>
                <a:latin typeface="Calibri"/>
              </a:rPr>
              <a:t>懂了嗎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3:31:27Z</dcterms:created>
  <dc:creator>Nelson Shih</dc:creator>
  <dc:description/>
  <dc:language>en-US</dc:language>
  <cp:lastModifiedBy>Nelson</cp:lastModifiedBy>
  <dcterms:modified xsi:type="dcterms:W3CDTF">2007-10-23T15:12:51Z</dcterms:modified>
  <cp:revision>23</cp:revision>
  <dc:subject/>
  <dc:title>投影片 1</dc:title>
</cp:coreProperties>
</file>